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2A5-9DB6-490B-BFDE-189616A7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B748-3DB4-46BE-84F4-D4E9A1870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0ED-E6D6-452C-AF55-DB79C49AD5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42D-91A7-4092-AF3D-BB5D4AC18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CA1-4C16-4986-9D64-51D4F6A3A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170-FDE5-4823-BE89-CF453CEF4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F850-62C0-42A4-B35C-7AC835D95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919-B40A-4651-B235-C39AFE5206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C33-ABAE-44B6-939C-01D1463BF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B0A-23CD-4906-8E57-0CA34B55B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72D0-DD99-482A-A2DD-4D2C47537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D13-809A-484F-8054-1A626B611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B722-645E-404D-AC96-1AA835C8B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CAE-CFE5-4A06-B707-ADA5EAD520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2A5A-6ABB-4821-A4AB-0CF1A6CD4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2C8-8EC0-4CC3-BE05-647653CEC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450F-159D-46DA-9A24-C64CC2A8B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3B97-99D2-40B8-8BC5-2FEF12A44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EEE-122B-4F91-90EE-CBAEC822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739-3E1C-41B6-AE2E-DBEC310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0F6-2AD4-4135-8C47-16462388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678-A6E5-4FB8-A853-23EA4DA8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5BC-6AB5-46AD-B699-146CD1B5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7B16-253D-420B-8BE3-9B591252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93B8-4AB4-47B0-8EC0-DDE7A36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AE87-899D-4670-95B9-EC3C192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A4E-6B4B-49D4-8453-BDB592ED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978-8300-410E-B820-351E995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72F1-37A2-4083-B962-6472192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356-92BA-4F49-A710-460FB98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C54E-6DD6-4A75-B31F-932B3F8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F7FD-E456-47F7-927F-D3F5A1A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7DC7-13BB-497B-B83B-36C395D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5CBB-EC9E-4644-BFD1-DC5142CB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867B-6D15-4C2C-926A-FF434DCA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505-D3A9-43DF-8602-3B17AFE3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52E-1A49-418B-9B18-A4B8EA8C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775-C158-4ABD-B49F-583F3D2C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475-81E6-4012-A37D-41A6B88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76A-93AF-45CA-883D-D84AD89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AAD-4079-44E0-8EF1-15451BE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24A-3158-4352-A222-3269378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863-CB44-4C15-B036-136FF7295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9FE8-9DE8-4A2E-A74E-6FAA222512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newablefeed.googlepages.com/biofuels_gaspump.jpg/biofuels_gaspump-full;init: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Biofuel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ffany Mor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na Sav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a Wa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biofuel_bubbles_28665a"/>
          <p:cNvPicPr/>
          <p:nvPr/>
        </p:nvPicPr>
        <p:blipFill>
          <a:blip r:embed="rId1"/>
          <a:stretch/>
        </p:blipFill>
        <p:spPr>
          <a:xfrm>
            <a:off x="2971800" y="1447920"/>
            <a:ext cx="33717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– the problem is, fossil fuels are used to FARM the crops and made into biofu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, are biofuels carbon neutra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533840" cy="34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2511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diesel made from oils of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 vegetable o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ke from McDonal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Seed Pla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ol made from fermented plant sugars and st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ol is a very strong alcoh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de Fro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7180200" y="1905120"/>
            <a:ext cx="196380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6858000" y="4952880"/>
            <a:ext cx="2286000" cy="17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5943600" y="4419720"/>
            <a:ext cx="1515960" cy="193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7315200" y="228600"/>
            <a:ext cx="16002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ducers of Ethon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04920" y="1371600"/>
            <a:ext cx="51051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762120" y="1371600"/>
            <a:ext cx="472428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rica mainly uses Co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mount of fuel and oil needed to use ethanol is greater than the value of energy ethanol provid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finitely makes more sense to switch source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asoline along with  other oils and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corn, 1.76 gallons of gasoline= 2.66 gallons of 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biofuels should be made of the best resources: cellulosic bio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chips, trash, and switch gr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5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27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uzzle.com/articles/advantages-and-disadvantages-of-biofuel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dpedia.com/re/be/adv/adv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discovermagazine.com/2008/oct/03-anything-into-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newfarm.rodaleinstitute.org/news/2005/0705/070705/ethanol.shtmlhttp://ezinearticles.com/?Carbon-Neutral---What-Does-It-Mean?&amp;id=33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lternativefuels.about.com/od/ethanol/a/whatsethan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habmigern2003.info/biogas/biofuels.htm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iodiesel.org/markets/pa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journeytoforever.org/ethano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are Biofuels used for and what are they made from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d For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 and Eth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Fuels used to run cars and diesel eng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Used as an alternative source of gaso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65dieselengine"/>
          <p:cNvPicPr/>
          <p:nvPr/>
        </p:nvPicPr>
        <p:blipFill>
          <a:blip r:embed="rId1"/>
          <a:stretch/>
        </p:blipFill>
        <p:spPr>
          <a:xfrm>
            <a:off x="3733920" y="4767120"/>
            <a:ext cx="2438280" cy="209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42670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095880" y="4030560"/>
            <a:ext cx="2438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rce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United States made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Corn, switchgrass, and soyb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urope made fro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Rapeseed, wheat, and sugar b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Brazil made from: sugar ca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371600" cy="20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7767720" y="1752480"/>
            <a:ext cx="13762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173988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5"/>
          <a:stretch/>
        </p:blipFill>
        <p:spPr>
          <a:xfrm>
            <a:off x="7848720" y="4114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28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7"/>
          <a:stretch/>
        </p:blipFill>
        <p:spPr>
          <a:xfrm>
            <a:off x="6858000" y="574992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b2b2b2"/>
                </a:solidFill>
                <a:latin typeface="comic"/>
              </a:rPr>
              <a:t>Biodiesel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0" y="1905120"/>
            <a:ext cx="47242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is a clean alternative fuel, which is produced from domestic, renewable 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t is also a chemical process that separates “glycerine” and methyl esters from fats and vegetable o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t is non-petroleum diesel and is biodegradable, non-toxic, and free of sulfur and aromat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can work in any diesel engine and is more efficient than regular gasolin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he chemical formula for biodiesel is B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1447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Biodies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38680" y="1447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dif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791320" y="20574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95880" y="2133720"/>
            <a:ext cx="259092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Modifications for biodiesel run according to the vehi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Modifications are only necessary for some vehicles, other are not u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724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hanol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What is ethan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thanol gas, also known as “ethyl alcohol”, is an alternative fuel fermented from corn, grains or agriculture waste or it is chemically extracted from ethyl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t is a clear, colorless, liquid with an odor and t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t is drinkable and the ingredient for beer and w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r vehicles, it is a high performance motor fuel, so it is good for the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he chemical formula for ethanol is C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419720" y="1752480"/>
            <a:ext cx="2895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odiesel and ethanol are made from two different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odiesel is made from oil and fats, and ethanol is made from sugar crops like sugar cane, and st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itives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produces 78% less carbon dioxide (CO2) than normal diesel fu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Biodiesel can be used in all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reduce greenhouse gas emiss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degrad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tox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s job opportunies in the rural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ew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s last longer when using i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diesel is classified as a non-flammable liquid aka pure biodiesel far safer in an accident than gasolin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biofuels_gaspump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1295280"/>
            <a:ext cx="18572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bio-fuel_530"/>
          <p:cNvPicPr/>
          <p:nvPr/>
        </p:nvPicPr>
        <p:blipFill>
          <a:blip r:embed="rId3"/>
          <a:stretch/>
        </p:blipFill>
        <p:spPr>
          <a:xfrm>
            <a:off x="5791320" y="3962520"/>
            <a:ext cx="292248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thanol"/>
          <p:cNvPicPr/>
          <p:nvPr/>
        </p:nvPicPr>
        <p:blipFill>
          <a:blip r:embed="rId4"/>
          <a:stretch/>
        </p:blipFill>
        <p:spPr>
          <a:xfrm>
            <a:off x="5105520" y="1295280"/>
            <a:ext cx="203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2" descr="http://knol.google.com/k/-/-/oml631csgjs7/atudef/biodiesel-chart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gatives of Biofu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rder to harvest, the tractor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ssil fuels, which are harmfu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ing Cars vs Feeding People;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mited resour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ss l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animals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ing to pay for car adju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biofuels-good-or-bad"/>
          <p:cNvPicPr/>
          <p:nvPr/>
        </p:nvPicPr>
        <p:blipFill>
          <a:blip r:embed="rId1"/>
          <a:stretch/>
        </p:blipFill>
        <p:spPr>
          <a:xfrm>
            <a:off x="4495680" y="809640"/>
            <a:ext cx="4478400" cy="30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iofuels-cartoon"/>
          <p:cNvPicPr/>
          <p:nvPr/>
        </p:nvPicPr>
        <p:blipFill>
          <a:blip r:embed="rId2"/>
          <a:stretch/>
        </p:blipFill>
        <p:spPr>
          <a:xfrm>
            <a:off x="4495680" y="3882960"/>
            <a:ext cx="4399200" cy="29750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533160" y="6296040"/>
            <a:ext cx="358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cupblog.files.wordpress.com/2008/08/ethanol-effect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Biofuels Carbon Neutra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8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83544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0" y="40384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1: When Biofuels are burned they release Carbon (CO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2: The carbon is than released back into the atmosphere where plants convert the carbon into plant material like glucose; which is done through photosynth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asically Carbon is removed from the atmosphere, stored in plants and then released  when the biofuels are bur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* For every gram of carbon released when burned by a biofuel equals a gram of carbon being removed from the atmosphere by photosynth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3:01:30Z</dcterms:created>
  <dc:creator>sasd</dc:creator>
  <dc:description/>
  <dc:language>en-US</dc:language>
  <cp:lastModifiedBy>SASD</cp:lastModifiedBy>
  <dcterms:modified xsi:type="dcterms:W3CDTF">2009-04-28T13:35:41Z</dcterms:modified>
  <cp:revision>54</cp:revision>
  <dc:subject/>
  <dc:title>Biofuels</dc:title>
</cp:coreProperties>
</file>